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606-7462-4578-B110-4567DFF1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81A-0CF7-4CF0-99BA-FE28EFEC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342-17E7-4752-924D-DC08FAC2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BAF1-21FB-4485-A9D7-59A79C62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93E4-A1EF-4536-844A-8F49DE84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B831-879C-41E9-A019-5DA85D75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7DA2-7DB9-4096-B2A8-4FA0927D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4E1B-00F9-4EF3-8011-15C5E3A9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A121-444F-41DA-B20C-BDACE15F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A793-92D8-4027-9313-AC09F54D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031C-07B7-4DD7-9752-DEF26085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7A3-CFF0-4BD5-A44D-61E5C1A8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4AC8-1221-4CBB-99F8-63ACF3D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50BE-D970-486E-A1CF-976A16A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D471-3863-4D68-B0C2-F5B5F0B9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BE71-1E19-42D0-BF06-1FBA2C5B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F1A9-EA7E-4ACF-AB22-05BE5EB2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AD455-2682-4E57-A05F-6EB39E3B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4685-F0FB-45A5-B33C-BD82134D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CDDE-04F4-4AC8-8641-34F350CF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FF135-EC3D-49EC-A03C-861186A3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68AA-0C5B-4DDC-AEBC-1B070BB1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107-64CE-4B0D-962B-5B6AB7AB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263C-00E5-467B-A78A-5B420C43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746E4-EFE8-4FF9-8B2D-D50EC3EA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A983-3959-4232-B8D7-0238D56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B35A-3A66-43F6-9F31-07CF3F0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3454-8F08-4555-9A6D-E01AE95A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50B3D-F621-4017-867C-AD2D1CB4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4AC8-E3BA-4096-8AA1-2CB63A09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725F6-61A4-42B4-B4E6-510FEDC2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B11A7-8198-4F40-A363-588BD6A0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CA595-128D-480D-B945-7F335223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0DA-1CB9-432F-B1E8-1D905B20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A3F5-1FFA-457F-BB81-1CDFD901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BF728-29D7-4C56-9FE3-E5324C0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18FD7-4B55-4FC0-B3BB-EA2B903E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E7552-E2F5-4291-83D8-B50D60E4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EEFF0-0BB8-4FB6-977D-A2E20600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94F4-BD0C-46FF-AC48-A9A09EDA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EB073-CFBD-46A2-BA23-A502E723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FF9AB-5104-461C-823A-85926230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0CD16-79A3-48EC-95C7-6019F88A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EB40-1949-42C5-B21F-AFC9E846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6A2-5195-4D60-878E-0AAFD3DC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6162F-EA42-415C-AFBE-FA3A0AE7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4749-F1C3-4C8E-976F-769C0440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A209-BD61-4B06-87EA-D1EF7E5B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9EED-9D6B-45E7-8BAB-3EB17B8B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5BA6A-C652-416B-AF2B-48DDCCFF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A3F21-FB3A-49CD-B605-7BDEA85C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AE922-18C5-4880-A0B7-F984B47B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7349-268C-4534-8A90-9841E614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C712-63E6-4FFB-A57B-3A1ED247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E27DE-11AC-452E-9F4E-E07CCF52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3E8-DCBB-4A24-BA1C-EDDCFDD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7B7D-3BD7-4ECB-A717-1801753B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F0772-7EF0-47A7-B682-F2903C76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87DD3-8C80-470E-A2C1-FF5177AD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103A0-42E1-44DC-95A8-DCEF8C12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CF46-25BD-4061-BD00-3596B3A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8BFBB-C684-4416-B719-ECD89574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E7095-4F23-4B3B-A599-FAC7BC75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432A-3822-46E6-B030-8470E9A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1221A-28E7-4B2E-8C23-6A0BD59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01766-679C-470F-A526-FBC64231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B7B-1C51-412A-B3EE-4CF792C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F9CF6-F564-4A65-83A2-7A0C1578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BF8E9-30BC-4874-9E8B-0C7B8FF7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9C179-8047-4FB4-ACF5-18341FFF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25A72-3F69-4537-B555-C05C2194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4719-6300-40C3-A5FC-BB373D53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64626-6921-42D0-A5FB-9B579B4F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7A446-B827-4E77-BD32-34BF0C36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EB7DA-7253-49BC-9615-A356DE9E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DE17-1ADF-44FC-8482-1E144EB7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99BE0-AAD6-4681-9A7F-34428833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6D9-3542-4B79-8AA8-94A245B7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21534-211B-42A4-AF8F-8895D60D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0CD4A-9833-4FA0-A44F-1E5F11E3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55ADB-857D-498A-B079-D8253C09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7B663-C8A3-4623-8BC8-EB22D37C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BF744-8CB6-438E-AB52-50EF9E7E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487-CA01-4E03-B051-58D5DEA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6B22-C92C-434E-8743-7D78A4F71AF3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uorakulmio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uorakulmio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uorakulmio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uorakulmio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uorakulmio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uorakulmio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uorakulmio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Suorakulmio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Suorakulmio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5901-7DE4-4792-BA87-252851F32DC9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uolivapaa piirto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uolivapaa piirto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uolivapaa piirto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uolivapaa piirto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uolivapaa piirto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uolivapaa piirto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uolivapaa piirto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uolivapaa piirto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uolivapaa piirto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uolivapaa piirto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uolivapaa piirto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uolivapaa piirto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uolivapaa piirto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uolivapaa piirto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uolivapaa piirto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uorakulmio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uorakulmio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uorakulmio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uorakulmio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uorakulmio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uorakulmio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BD6B-0E21-46CD-9DC9-48D1597DE635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3742-6C7D-4161-87D9-869B4FF4DE18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uorakulmio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Suorakulmio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uorakulmio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uorakulmio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uorakulmio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uorakulmio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uorakulmio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uorakulmio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uorakulmio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Suorakulmio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41F5-7CA6-473D-BDDF-3AAC2BC0910E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FAC8-0DF2-460A-8A17-D5A97D407758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uorakulmio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uorakulmio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uorakulmio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uorakulmio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uorakulmio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uorakulmio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uorakulmio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uorakulmio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Suorakulmio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Suorakulmio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uora yhdysviiv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Ryhmä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uora yhdysviiva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uora yhdysviiva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uora yhdysviiva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Ryhmä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uora yhdysviiva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uora yhdysviiva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uora yhdysviiva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Ryhmä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uora yhdysviiva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uora yhdysviiva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uora yhdysviiva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CC87-B771-44B7-9147-FF687735B6A9}" type="slidenum">
              <a:rPr b="0" lang="fi-FI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oimari.com/" TargetMode="External"/><Relationship Id="rId3" Type="http://schemas.openxmlformats.org/officeDocument/2006/relationships/hyperlink" Target="http://toimari.com/" TargetMode="External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c1eeff"/>
                </a:solidFill>
                <a:latin typeface="Consolas"/>
              </a:rPr>
              <a:t>Hyvinkää Toimar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69" name="Picture 2" descr="C:\Users\sannaku\Pictures\TOPO\P11601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Tekstikehys 4"/>
          <p:cNvSpPr/>
          <p:nvPr/>
        </p:nvSpPr>
        <p:spPr>
          <a:xfrm>
            <a:off x="611280" y="1628640"/>
            <a:ext cx="2089080" cy="1200600"/>
          </a:xfrm>
          <a:prstGeom prst="rect">
            <a:avLst/>
          </a:prstGeom>
          <a:solidFill>
            <a:srgbClr val="00addc"/>
          </a:solidFill>
          <a:ln w="1908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Hyvinkää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Toim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Yhdistys tarjoaa asuntola ja tukiasuntotoimintaa, päiväkeskus j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3" name="Picture 2" descr="C:\Users\sannaku\Pictures\TOPO\P1160156.JPG"/>
          <p:cNvPicPr/>
          <p:nvPr/>
        </p:nvPicPr>
        <p:blipFill>
          <a:blip r:embed="rId1"/>
          <a:stretch/>
        </p:blipFill>
        <p:spPr>
          <a:xfrm>
            <a:off x="450072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Ensisuojapalveluit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Opiskelijan toivotaan suorittavan vähintään yhden vuoron ensisuojass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6" name="Picture 3" descr="C:\Users\sannaku\Pictures\TOPO\P1160129.JPG"/>
          <p:cNvPicPr/>
          <p:nvPr/>
        </p:nvPicPr>
        <p:blipFill>
          <a:blip r:embed="rId1"/>
          <a:stretch/>
        </p:blipFill>
        <p:spPr>
          <a:xfrm>
            <a:off x="457200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Lähihoitajan työtehtävä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Arjessa tukemine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Asiointiap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Hoidolliset toimet (lääkkeet, haava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virkistystoimint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C:\Users\sannaku\Pictures\TOPO\P1160162.JPG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Opiskelijalta toivotaa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Omatoimisuu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Rohkeu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Huumorintaj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Erilaisuuden siet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Corbel"/>
              </a:rPr>
              <a:t>Ymmärry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Picture 3" descr="C:\Users\sannaku\Pictures\TOPO\P1160141.JPG"/>
          <p:cNvPicPr/>
          <p:nvPr/>
        </p:nvPicPr>
        <p:blipFill>
          <a:blip r:embed="rId1"/>
          <a:stretch/>
        </p:blipFill>
        <p:spPr>
          <a:xfrm>
            <a:off x="4643280" y="191628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Picture 2" descr="C:\Users\sannaku\Pictures\TOPO\P1160139.JPG"/>
          <p:cNvPicPr/>
          <p:nvPr/>
        </p:nvPicPr>
        <p:blipFill>
          <a:blip r:embed="rId1"/>
          <a:stretch/>
        </p:blipFill>
        <p:spPr>
          <a:xfrm>
            <a:off x="826920" y="162864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Yhteydenoto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Anne Jormalaine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Corbel"/>
              </a:rPr>
              <a:t>040 7495034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Corbel"/>
              </a:rPr>
              <a:t>anne.jormalainen@toimari.co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1:06:21Z</dcterms:created>
  <dc:creator>sannaku</dc:creator>
  <dc:description/>
  <dc:language>en-US</dc:language>
  <cp:lastModifiedBy>sannaku</cp:lastModifiedBy>
  <dcterms:modified xsi:type="dcterms:W3CDTF">2010-11-23T14:04:49Z</dcterms:modified>
  <cp:revision>10</cp:revision>
  <dc:subject/>
  <dc:title>Hyvinkää Toimari</dc:title>
</cp:coreProperties>
</file>